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42D-95E2-462D-81F0-E1CAFD04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EDC-9A98-4C9F-B935-02DB949B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B49-684E-4FD2-9162-D2E879AC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EBA-6931-47FA-A99B-46275E0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CCD-77C9-463D-B1DC-C7AA50D1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9F59-E654-4E59-B425-5FAF33B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AE6-A426-45C5-A7B8-B4A09C4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2086-ED5E-4FC2-8E61-45A8876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A843-3B64-49F6-8C9E-09D0208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B7D-287E-45F5-9D06-CB3DB9F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2108-2194-4DA7-B0EF-0728886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2E5-67A6-4E9B-B021-740F64B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459-FD08-4ECB-ABBE-AB32519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C760-6C92-4893-A3DC-3890C5B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141-E567-43D1-89AC-D3B912D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30B-60D2-4FE2-8D58-85DE49E0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1C8F-00B3-4A59-A5F9-D61E9C97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672-E285-4092-8B38-F8704FDA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88C-EFC1-4283-9ACC-F9E4FF3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FFC-1BA4-4AB0-9220-062AB06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38E-B459-4E06-BE1F-12C8851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9C0-62B8-4BE4-B9E5-3297E10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79F-A5BC-4548-9DC7-283AC76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107-ECBE-4624-83FE-822E218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7E02-3532-4069-BFA3-68C68414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5A1-4E3A-4910-86E8-98592FC1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Grade Gram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Noun names a person, place, thing, or animal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un names a person or peop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MPj04395730000[1]"/>
          <p:cNvPicPr/>
          <p:nvPr/>
        </p:nvPicPr>
        <p:blipFill>
          <a:blip r:embed="rId1"/>
          <a:stretch/>
        </p:blipFill>
        <p:spPr>
          <a:xfrm>
            <a:off x="4572000" y="2514600"/>
            <a:ext cx="2435400" cy="31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MPj04394270000[1]"/>
          <p:cNvPicPr/>
          <p:nvPr/>
        </p:nvPicPr>
        <p:blipFill>
          <a:blip r:embed="rId2"/>
          <a:stretch/>
        </p:blipFill>
        <p:spPr>
          <a:xfrm>
            <a:off x="1496880" y="2514600"/>
            <a:ext cx="24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un names a place or plac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MPj04394360000[1]"/>
          <p:cNvPicPr/>
          <p:nvPr/>
        </p:nvPicPr>
        <p:blipFill>
          <a:blip r:embed="rId1"/>
          <a:stretch/>
        </p:blipFill>
        <p:spPr>
          <a:xfrm>
            <a:off x="1198440" y="1828800"/>
            <a:ext cx="27450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Pj02020450000[1]"/>
          <p:cNvPicPr/>
          <p:nvPr/>
        </p:nvPicPr>
        <p:blipFill>
          <a:blip r:embed="rId2"/>
          <a:stretch/>
        </p:blipFill>
        <p:spPr>
          <a:xfrm>
            <a:off x="4667400" y="1828800"/>
            <a:ext cx="257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 noun names a thing or things. It also names animal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j0332364"/>
          <p:cNvPicPr/>
          <p:nvPr/>
        </p:nvPicPr>
        <p:blipFill>
          <a:blip r:embed="rId1"/>
          <a:stretch/>
        </p:blipFill>
        <p:spPr>
          <a:xfrm>
            <a:off x="1828800" y="2590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216858"/>
          <p:cNvPicPr/>
          <p:nvPr/>
        </p:nvPicPr>
        <p:blipFill>
          <a:blip r:embed="rId2"/>
          <a:stretch/>
        </p:blipFill>
        <p:spPr>
          <a:xfrm>
            <a:off x="4800600" y="2514600"/>
            <a:ext cx="1827360" cy="175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MPj04394710000[1]"/>
          <p:cNvPicPr/>
          <p:nvPr/>
        </p:nvPicPr>
        <p:blipFill>
          <a:blip r:embed="rId3"/>
          <a:stretch/>
        </p:blipFill>
        <p:spPr>
          <a:xfrm>
            <a:off x="1828800" y="480060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Give Information in Writin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96440" cy="36576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nouns when writing gives readers information about people, places, things, and anim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use a noun or nouns in your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tences should always have a noun in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in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lo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larg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m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d fun at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!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 ate two hot do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ode the ______ to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a great time at the_____ on Fri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_______ has furry hair all over its bo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, Review, Review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noun names a person, place, thing, or anim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ing nouns when writing gives readers information about people, places, things, and anim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lways use a noun or nouns in your 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ntences should always have a noun in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3:51Z</dcterms:created>
  <dc:creator>Madison County Schools</dc:creator>
  <dc:description/>
  <dc:language>en-US</dc:language>
  <cp:lastModifiedBy>Laura McDow</cp:lastModifiedBy>
  <dcterms:modified xsi:type="dcterms:W3CDTF">2010-09-17T17:09:32Z</dcterms:modified>
  <cp:revision>7</cp:revision>
  <dc:subject/>
  <dc:title>Nouns</dc:title>
</cp:coreProperties>
</file>